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9.png" ContentType="image/png"/>
  <Override PartName="/ppt/media/chimes.wav" ContentType="audio/x-wav"/>
  <Override PartName="/ppt/media/image6.jpeg" ContentType="image/jpeg"/>
  <Override PartName="/ppt/media/image7.wmf" ContentType="image/x-wmf"/>
  <Override PartName="/ppt/media/image11.jpeg" ContentType="image/jpeg"/>
  <Override PartName="/ppt/media/image14.jpeg" ContentType="image/jpeg"/>
  <Override PartName="/ppt/media/image15.wmf" ContentType="image/x-wmf"/>
  <Override PartName="/ppt/media/image1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12.wmf" ContentType="image/x-wmf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40BFB-152A-4AE6-892C-A4CE25778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5E97-16A7-4D5C-A9F6-7E00AA77B48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5FF0-CA8C-4F13-8431-9C5CBBE776C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C6CA-3384-4315-BD14-95D56B44BD6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DBD8-3DFA-4968-A18F-09DF93397EE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7147-A592-48E0-906F-DF890F86FC5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683E-F3E6-470B-90F5-C1C92F0DBF9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3B008-504D-4BAE-A63C-9AD67CC2182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E0D5-0315-494F-BCB3-2F7664851EF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E2AD-1B48-4564-8BE0-1512638A550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3D8E-A129-48F4-AD48-3D95CF96A08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2004-43CD-4F81-92AC-34E397F64DE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3E60-4A03-4649-A9C5-C758BAE26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F990-0599-4717-90F9-A9D2A79E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29A3-DDE4-4EA3-8782-5101A03B4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7168-0FD0-4B6C-AC67-48C075C5E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F850-31AB-4BDE-BEC8-7011E230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F545-2A04-42E9-850A-8A011352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126F-6E09-4526-B9BB-16F0141A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A16B-C492-49DA-96D8-6F29D3FE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08A9-70AD-4C66-B82A-AB31ED56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651D-346C-46BF-8C88-4412C794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DFC1-1CB3-4CC6-A70F-3C1625C7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EA03-6413-43C5-9009-5B588420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043A-A319-420D-8D81-EE3423179CD8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7e52d"/>
              </a:solidFill>
              <a:latin typeface="Book Antiqua"/>
            </a:endParaRPr>
          </a:p>
        </p:txBody>
      </p:sp>
      <p:pic>
        <p:nvPicPr>
          <p:cNvPr id="50" name="Picture 5" descr="C:\Documents and Settings\bcsuser\Local Settings\Temporary Internet Files\Content.IE5\HZ9USTVL\MCAN01106_0000[1].wmf"/>
          <p:cNvPicPr/>
          <p:nvPr/>
        </p:nvPicPr>
        <p:blipFill>
          <a:blip r:embed="rId2"/>
          <a:stretch/>
        </p:blipFill>
        <p:spPr>
          <a:xfrm>
            <a:off x="3505320" y="914400"/>
            <a:ext cx="1476360" cy="1743120"/>
          </a:xfrm>
          <a:prstGeom prst="rect">
            <a:avLst/>
          </a:prstGeom>
          <a:ln w="0">
            <a:noFill/>
          </a:ln>
        </p:spPr>
      </p:pic>
      <p:sp>
        <p:nvSpPr>
          <p:cNvPr id="51" name="Curved Left Arrow 7"/>
          <p:cNvSpPr/>
          <p:nvPr/>
        </p:nvSpPr>
        <p:spPr>
          <a:xfrm>
            <a:off x="7315200" y="190512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3377999"/>
                <a:lnTo>
                  <a:pt x="5400" y="21334"/>
                </a:lnTo>
                <a:lnTo>
                  <a:pt x="0" y="18350"/>
                </a:lnTo>
                <a:lnTo>
                  <a:pt x="5400" y="14834"/>
                </a:lnTo>
                <a:lnTo>
                  <a:pt x="5400" y="16459"/>
                </a:lnTo>
                <a:arcTo wR="21600" hR="8363" stAng="3377999" swAng="-3114862"/>
                <a:lnTo>
                  <a:pt x="21188" y="9988"/>
                </a:lnTo>
                <a:arcTo wR="21600" hR="8363" stAng="-263137" swAng="-5136863"/>
                <a:close/>
              </a:path>
              <a:path fill="darkenLess" w="21600" h="21600">
                <a:moveTo>
                  <a:pt x="0" y="0"/>
                </a:moveTo>
                <a:arcTo wR="21600" hR="8363" stAng="-5400000" swAng="5400000"/>
                <a:lnTo>
                  <a:pt x="21600" y="11613"/>
                </a:lnTo>
                <a:arcTo wR="21600" hR="8363" stAng="0" swAng="-263137"/>
                <a:lnTo>
                  <a:pt x="21188" y="9988"/>
                </a:lnTo>
                <a:arcTo wR="21600" hR="8363" stAng="-263137" swAng="-5136863"/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Curved Right Arrow 8"/>
          <p:cNvSpPr/>
          <p:nvPr/>
        </p:nvSpPr>
        <p:spPr>
          <a:xfrm>
            <a:off x="990720" y="175248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63" stAng="-5400000" swAng="-5400000"/>
                <a:lnTo>
                  <a:pt x="0" y="11613"/>
                </a:lnTo>
                <a:arcTo wR="21600" hR="8363" stAng="10800000" swAng="-3377999"/>
                <a:lnTo>
                  <a:pt x="16200" y="21334"/>
                </a:lnTo>
                <a:lnTo>
                  <a:pt x="21600" y="18350"/>
                </a:lnTo>
                <a:lnTo>
                  <a:pt x="16200" y="14834"/>
                </a:lnTo>
                <a:lnTo>
                  <a:pt x="16200" y="16459"/>
                </a:lnTo>
                <a:arcTo wR="21600" hR="8363" stAng="7422001" swAng="3114862"/>
                <a:lnTo>
                  <a:pt x="412" y="9988"/>
                </a:lnTo>
                <a:arcTo wR="21600" hR="8363" stAng="-10536863" swAng="5136863"/>
                <a:close/>
              </a:path>
              <a:path fill="darkenLess" w="21600" h="21600">
                <a:moveTo>
                  <a:pt x="21600" y="0"/>
                </a:moveTo>
                <a:arcTo wR="21600" hR="8363" stAng="-5400000" swAng="-5400000"/>
                <a:lnTo>
                  <a:pt x="0" y="8363"/>
                </a:lnTo>
                <a:arcTo wR="21600" hR="8363" stAng="10800000" swAng="-263137"/>
                <a:lnTo>
                  <a:pt x="412" y="9988"/>
                </a:lnTo>
                <a:arcTo wR="21600" hR="8363" stAng="-10536863" swAng="5136863"/>
                <a:close/>
              </a:path>
            </a:pathLst>
          </a:custGeom>
          <a:solidFill>
            <a:srgbClr val="7fd13b"/>
          </a:solidFill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ow you can help burrowing owls to not go instinct is to adopt on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79" name="Picture 4" descr="C:\Documents and Settings\bcsuser\Local Settings\Temporary Internet Files\Content.IE5\ARBQG4H9\MPj02625430000[1].jpg"/>
          <p:cNvPicPr/>
          <p:nvPr/>
        </p:nvPicPr>
        <p:blipFill>
          <a:blip r:embed="rId2"/>
          <a:stretch/>
        </p:blipFill>
        <p:spPr>
          <a:xfrm>
            <a:off x="2743200" y="281952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website I went on to research is endangerdspecies.com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2" name="Picture 4" descr="C:\Documents and Settings\bcsuser\Local Settings\Temporary Internet Files\Content.IE5\HZ9USTVL\MCj00885100000[1].wmf"/>
          <p:cNvPicPr/>
          <p:nvPr/>
        </p:nvPicPr>
        <p:blipFill>
          <a:blip r:embed="rId2"/>
          <a:stretch/>
        </p:blipFill>
        <p:spPr>
          <a:xfrm>
            <a:off x="3733920" y="3124080"/>
            <a:ext cx="1685880" cy="18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30492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typical average size is length: 10 inches and weight is 6 ounce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5" name="Picture 4" descr="C:\Documents and Settings\bcsuser\Local Settings\Temporary Internet Files\Content.IE5\U8F2E6RG\MPj04387650000[1].jpg"/>
          <p:cNvPicPr/>
          <p:nvPr/>
        </p:nvPicPr>
        <p:blipFill>
          <a:blip r:embed="rId2"/>
          <a:stretch/>
        </p:blipFill>
        <p:spPr>
          <a:xfrm>
            <a:off x="1981080" y="2743200"/>
            <a:ext cx="524844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life span is clutch size: 3 to 12 eggs and gestation is 28 day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58" name="Picture 4" descr="C:\Documents and Settings\bcsuser\Local Settings\Temporary Internet Files\Content.IE5\ARBQG4H9\MPj02626580000[1].jpg"/>
          <p:cNvPicPr/>
          <p:nvPr/>
        </p:nvPicPr>
        <p:blipFill>
          <a:blip r:embed="rId2"/>
          <a:stretch/>
        </p:blipFill>
        <p:spPr>
          <a:xfrm>
            <a:off x="3359160" y="2743200"/>
            <a:ext cx="24256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burrowing owls diet is moles, mice, and  some bird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1" name="Picture 4" descr="C:\Documents and Settings\bcsuser\Local Settings\Temporary Internet Files\Content.IE5\HZ9USTVL\MCj03701400000[1].wmf"/>
          <p:cNvPicPr/>
          <p:nvPr/>
        </p:nvPicPr>
        <p:blipFill>
          <a:blip r:embed="rId2"/>
          <a:stretch/>
        </p:blipFill>
        <p:spPr>
          <a:xfrm>
            <a:off x="3701880" y="2509920"/>
            <a:ext cx="1740240" cy="183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current population is that there are 10,000 in South Americ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4" name="Picture 5" descr="C:\Documents and Settings\bcsuser\Local Settings\Temporary Internet Files\Content.IE5\U8F2E6RG\MPj04065170000[1].jpg"/>
          <p:cNvPicPr/>
          <p:nvPr/>
        </p:nvPicPr>
        <p:blipFill>
          <a:blip r:embed="rId2"/>
          <a:stretch/>
        </p:blipFill>
        <p:spPr>
          <a:xfrm>
            <a:off x="2284560" y="2590920"/>
            <a:ext cx="457488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burrowing owl lives in South America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67" name="Picture 4" descr="C:\Documents and Settings\bcsuser\Local Settings\Temporary Internet Files\Content.IE5\ARBQG4H9\MCj04414190000[1].wmf"/>
          <p:cNvPicPr/>
          <p:nvPr/>
        </p:nvPicPr>
        <p:blipFill>
          <a:blip r:embed="rId2"/>
          <a:stretch/>
        </p:blipFill>
        <p:spPr>
          <a:xfrm>
            <a:off x="3890880" y="2517840"/>
            <a:ext cx="1362240" cy="182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typical behavior is its active and bobs its head if its in distres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70" name="Picture 4" descr="C:\Documents and Settings\bcsuser\Local Settings\Temporary Internet Files\Content.IE5\HZ9USTVL\MPj04394700000[1].jpg"/>
          <p:cNvPicPr/>
          <p:nvPr/>
        </p:nvPicPr>
        <p:blipFill>
          <a:blip r:embed="rId2"/>
          <a:stretch/>
        </p:blipFill>
        <p:spPr>
          <a:xfrm>
            <a:off x="1371600" y="2971800"/>
            <a:ext cx="6400800" cy="312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threats are horned owls, hawks, pesticides, and prairie dog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73" name="Picture 4" descr="C:\Documents and Settings\bcsuser\Local Settings\Temporary Internet Files\Content.IE5\IJHZ0Q1H\MCj04241520000[1].wmf"/>
          <p:cNvPicPr/>
          <p:nvPr/>
        </p:nvPicPr>
        <p:blipFill>
          <a:blip r:embed="rId2"/>
          <a:stretch/>
        </p:blipFill>
        <p:spPr>
          <a:xfrm>
            <a:off x="3733920" y="3200400"/>
            <a:ext cx="1514520" cy="21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7200" y="15238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enemies and predators are domestic cats, hawks, birds, and pesticide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76" name="Picture 4" descr="C:\Documents and Settings\bcsuser\Local Settings\Temporary Internet Files\Content.IE5\U8F2E6RG\MPj04010830000[1].jpg"/>
          <p:cNvPicPr/>
          <p:nvPr/>
        </p:nvPicPr>
        <p:blipFill>
          <a:blip r:embed="rId2"/>
          <a:stretch/>
        </p:blipFill>
        <p:spPr>
          <a:xfrm>
            <a:off x="3505320" y="2819520"/>
            <a:ext cx="2081160" cy="2627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9:02:05Z</dcterms:created>
  <dc:creator>pc#3</dc:creator>
  <dc:description/>
  <dc:language>en-US</dc:language>
  <cp:lastModifiedBy>Guest</cp:lastModifiedBy>
  <dcterms:modified xsi:type="dcterms:W3CDTF">2009-11-28T09:49:21Z</dcterms:modified>
  <cp:revision>13</cp:revision>
  <dc:subject/>
  <dc:title>Burrowing owl</dc:title>
</cp:coreProperties>
</file>